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2FB-44CC-464F-94A2-61F47BF8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986-52C6-4501-8674-DDEBD063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DEB-0729-4CF0-9BB5-6059C51C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216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6DF-4730-483F-B4E6-09D34B5C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0B4-4973-4BC3-8248-C7AB2F4C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EE4-284E-48F9-B8B1-82866D4B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C36F-D1BF-4D51-BDD7-9EC729E9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2ED-1C2E-4B35-8A94-313288D3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9F9-0D88-4C26-A722-F4CBFCA0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888-938B-44A8-B2E7-006AF5D2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216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172-CAA5-4F13-9413-BA7218B5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16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C948-74DD-4952-8DEF-A2D08CDF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8FF5-081C-404A-A411-977D744CB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Alternative to Lord’s Prayer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ternal Spiri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Earth-maker, Pain-bear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e-mak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ource of all that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that shall b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ather and Mother of us all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Loving God, in whom is heav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hallowing of your name ec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rough the univers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The way of your just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e follo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peoples of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heavenly will b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by all created being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r commonwealth of pea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ustain our h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nd come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With the bread we need for toda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ee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he hurts we absor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one another, forgiv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times of temptation and tes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trengthe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4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rials too great to end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spar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om the grip of all that is evil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re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For you reign in the glo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of the power that is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now and fore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5 of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0:57:47Z</dcterms:created>
  <dc:creator>Anon Anon</dc:creator>
  <dc:description/>
  <dc:language>en-US</dc:language>
  <cp:lastModifiedBy>Anon Anon</cp:lastModifiedBy>
  <dcterms:modified xsi:type="dcterms:W3CDTF">2005-08-09T05:42:05Z</dcterms:modified>
  <cp:revision>10</cp:revision>
  <dc:subject/>
  <dc:title>Alternative to Lord’s Prayer (SLD-2)</dc:title>
</cp:coreProperties>
</file>